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856F1-D7BC-4380-A4BB-4E46A679E7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B12B7-C8CD-433E-8D20-EEAB30A3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FBE62-AF21-4E66-B6DA-B67A2420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AA2B8-749E-4FED-96C3-3665CB9368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C66B0-11DF-4AE3-8AC8-7E627E0F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5F1EF-D929-4798-A963-399C2B88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3F7F5-1F0B-472C-836B-995BE49D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6CF1D-300A-4ABA-8C21-353E2A00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22F6F-598D-44FC-AB2B-E900DC22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6B693-7E67-4C0E-BF41-71EE0DBE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1237F-CEA3-4980-8AD9-F56CCED9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D3898-DA80-44B7-8B73-102242E1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FA21-6BA3-4CBB-9D97-A8725D39060F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&lt;Product&gt;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 approach slogan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Requested Status Re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Presenter’s 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D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681360"/>
            <a:ext cx="83185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Team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15693-A98C-4E05-B80C-B838E687F2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27320" y="374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04640"/>
            <a:ext cx="2960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TA &lt;Product&gt;</a:t>
            </a: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br>
              <a:rPr sz="2000"/>
            </a:b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atus pre &lt;Milest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61280" y="2065320"/>
            <a:ext cx="123012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nclude Schedu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(from S0 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49440" y="1628640"/>
          <a:ext cx="5722920" cy="381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1628640"/>
                    <a:ext cx="572292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 flipV="1">
            <a:off x="1074600" y="2050560"/>
            <a:ext cx="4857840" cy="30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3F9C9-1C8A-4336-ABAA-D5713AAF96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096A6-CE50-496C-9EA8-6FFEFD3DE4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cent Achieve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last milestone&gt;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xx.xx.xx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vs. xx.xx.xx as of M1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utloo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S25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xx.xx.xx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vs. xx.xx.xx as of M1)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DS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xx.xx.xx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vs. xx.xx.xx as of M1)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2F0AA-86DF-493C-BEA1-5DFAEC289B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Improvements on red ratings from last Quality Gate PH part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d: &lt;“TTM”, “Software” etc.&gt;: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description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-17640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&lt;improvement&gt;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-17640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&lt;improvement&gt;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d: Cost vs. Target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BOM target missed by 2 Euro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-17640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BOM reduced by 1 Euro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-17640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Further DTC measures to be evaluat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10172-2888-48EE-80E0-FFBBADE490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Current problem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Text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-&gt; Impact on TTM, cost, quality or other produc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Tex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0C8EA-B66D-480E-9905-B3F4E055C8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Option 1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645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6560" y="836640"/>
            <a:ext cx="3961080" cy="27777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Pros 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(→ TTM, cost, quality, other prod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836640"/>
            <a:ext cx="4176720" cy="27777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s 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(→ TTM, cost, quality, other prod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3933720"/>
            <a:ext cx="8351640" cy="26650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equired mea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measure; also state effort/cost of measure&gt;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ame&gt;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whe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measure&gt;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ame&gt;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whe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F268F-C100-41F1-B4BF-2E40E281DE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Option 2 (recommended)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3645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6560" y="836640"/>
            <a:ext cx="3961080" cy="27777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Pros 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(→ TTM, cost, quality, other prod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836640"/>
            <a:ext cx="4176720" cy="27777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s 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(→ TTM, cost, quality, other prod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33720"/>
            <a:ext cx="8351640" cy="26650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equired mea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measure; also state effort/cost of measure&gt;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ame&gt;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whe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measure&gt;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ame&gt;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whe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4A147-91F2-4FD5-866D-FC9E84C7B4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Decisions, resources, etc.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concrete actions only, e.g. not „higher  management attention“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90D88-066F-4DB5-8349-036D171D43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F99E4-D5EE-473F-B45E-A911A66F5A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2040" y="1152360"/>
            <a:ext cx="8356680" cy="5156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inancial Status – Not updated-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420B7-7C52-48B7-9826-FD9C2431EA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assanm</cp:lastModifiedBy>
  <dcterms:modified xsi:type="dcterms:W3CDTF">2006-01-13T14:44:54Z</dcterms:modified>
  <cp:revision>101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64028184</vt:r8>
  </property>
  <property fmtid="{D5CDD505-2E9C-101B-9397-08002B2CF9AE}" pid="3" name="_AuthorEmail">
    <vt:lpwstr>Marcell.Assan@BenQ.com</vt:lpwstr>
  </property>
  <property fmtid="{D5CDD505-2E9C-101B-9397-08002B2CF9AE}" pid="4" name="_AuthorEmailDisplayName">
    <vt:lpwstr>Marcell Assan</vt:lpwstr>
  </property>
  <property fmtid="{D5CDD505-2E9C-101B-9397-08002B2CF9AE}" pid="5" name="_EmailSubject">
    <vt:lpwstr>TPM / TPM BA jf am 9.1.</vt:lpwstr>
  </property>
</Properties>
</file>